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461-2849-4E96-AC35-6E27D818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D1E-16E8-40F6-A67E-C81F64B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985-6C03-41FD-8602-1396B095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8129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493160"/>
            <a:ext cx="291456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802-AC81-46A7-B7CD-32DD7AFD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333-E376-49E7-B26E-9B6D6E76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D76-4C5C-46A6-9F10-D241C71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B19-4C66-4849-9EC6-0119DF7D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AD1-6E42-42C2-994D-D955FEB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10680"/>
            <a:ext cx="9051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E2E-9ACE-43A1-ADD3-DA6C3C4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744-CD44-41F6-AAF0-C797D2C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4931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F63-7F49-4FE5-8205-B8AB522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812960"/>
            <a:ext cx="441720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493160"/>
            <a:ext cx="9051840" cy="2447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952-FA31-4AF2-8DCA-BC614A7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905184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812960"/>
            <a:ext cx="9051840" cy="5130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19D4DA-065C-473A-84DD-EA93D96D387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1080" y="194400"/>
            <a:ext cx="7383240" cy="7387920"/>
            <a:chOff x="1261080" y="194400"/>
            <a:chExt cx="7383240" cy="7387920"/>
          </a:xfrm>
        </p:grpSpPr>
        <p:sp>
          <p:nvSpPr>
            <p:cNvPr id="42" name="_s2078"/>
            <p:cNvSpPr/>
            <p:nvPr/>
          </p:nvSpPr>
          <p:spPr>
            <a:xfrm flipH="1">
              <a:off x="310644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77"/>
            <p:cNvSpPr/>
            <p:nvPr/>
          </p:nvSpPr>
          <p:spPr>
            <a:xfrm>
              <a:off x="1261080" y="2964960"/>
              <a:ext cx="184572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>
              <a:off x="4952520" y="481176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4029840" y="5735160"/>
              <a:ext cx="1845720" cy="18471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gri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>
              <a:off x="5875560" y="388836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6798240" y="2964960"/>
              <a:ext cx="184608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 flipV="1">
              <a:off x="495252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02984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8"/>
            <p:cNvSpPr/>
            <p:nvPr/>
          </p:nvSpPr>
          <p:spPr>
            <a:xfrm>
              <a:off x="402984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337400" y="194400"/>
            <a:ext cx="7383240" cy="7385040"/>
            <a:chOff x="1337400" y="194400"/>
            <a:chExt cx="7383240" cy="7385040"/>
          </a:xfrm>
        </p:grpSpPr>
        <p:sp>
          <p:nvSpPr>
            <p:cNvPr id="52" name="_s3132"/>
            <p:cNvSpPr/>
            <p:nvPr/>
          </p:nvSpPr>
          <p:spPr>
            <a:xfrm flipH="1" flipV="1">
              <a:off x="372492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31"/>
            <p:cNvSpPr/>
            <p:nvPr/>
          </p:nvSpPr>
          <p:spPr>
            <a:xfrm>
              <a:off x="2146320" y="100476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in For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76"/>
            <p:cNvSpPr/>
            <p:nvPr/>
          </p:nvSpPr>
          <p:spPr>
            <a:xfrm flipH="1">
              <a:off x="318528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77"/>
            <p:cNvSpPr/>
            <p:nvPr/>
          </p:nvSpPr>
          <p:spPr>
            <a:xfrm>
              <a:off x="1337400" y="2964960"/>
              <a:ext cx="1845720" cy="18468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deral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 flipH="1">
              <a:off x="372492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2149560" y="4922640"/>
              <a:ext cx="1845720" cy="18468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Amaz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0"/>
            <p:cNvSpPr/>
            <p:nvPr/>
          </p:nvSpPr>
          <p:spPr>
            <a:xfrm>
              <a:off x="5028840" y="480672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1"/>
            <p:cNvSpPr/>
            <p:nvPr/>
          </p:nvSpPr>
          <p:spPr>
            <a:xfrm>
              <a:off x="4108320" y="5732640"/>
              <a:ext cx="1846080" cy="18468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u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e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82"/>
            <p:cNvSpPr/>
            <p:nvPr/>
          </p:nvSpPr>
          <p:spPr>
            <a:xfrm>
              <a:off x="5679360" y="453672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6064920" y="4920120"/>
              <a:ext cx="1846080" cy="18468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is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den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4"/>
            <p:cNvSpPr/>
            <p:nvPr/>
          </p:nvSpPr>
          <p:spPr>
            <a:xfrm>
              <a:off x="5949360" y="3885840"/>
              <a:ext cx="92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6874560" y="2962440"/>
              <a:ext cx="1846080" cy="18468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 - Brasi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6"/>
            <p:cNvSpPr/>
            <p:nvPr/>
          </p:nvSpPr>
          <p:spPr>
            <a:xfrm flipV="1">
              <a:off x="5679360" y="2581560"/>
              <a:ext cx="652680" cy="6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7"/>
            <p:cNvSpPr/>
            <p:nvPr/>
          </p:nvSpPr>
          <p:spPr>
            <a:xfrm>
              <a:off x="6062400" y="1004760"/>
              <a:ext cx="1845720" cy="18468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pulation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8,739,2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88"/>
            <p:cNvSpPr/>
            <p:nvPr/>
          </p:nvSpPr>
          <p:spPr>
            <a:xfrm flipV="1">
              <a:off x="5028840" y="2041200"/>
              <a:ext cx="0" cy="92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89"/>
            <p:cNvSpPr/>
            <p:nvPr/>
          </p:nvSpPr>
          <p:spPr>
            <a:xfrm>
              <a:off x="4106160" y="194400"/>
              <a:ext cx="1845720" cy="18468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ag – Gr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yello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am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0"/>
            <p:cNvSpPr/>
            <p:nvPr/>
          </p:nvSpPr>
          <p:spPr>
            <a:xfrm>
              <a:off x="4106160" y="2964960"/>
              <a:ext cx="1845720" cy="1846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13:18Z</dcterms:created>
  <dc:creator>teacher</dc:creator>
  <dc:description/>
  <dc:language>en-US</dc:language>
  <cp:lastModifiedBy>teacher</cp:lastModifiedBy>
  <dcterms:modified xsi:type="dcterms:W3CDTF">2010-05-07T15:02:56Z</dcterms:modified>
  <cp:revision>4</cp:revision>
  <dc:subject/>
  <dc:title>Slide 1</dc:title>
</cp:coreProperties>
</file>